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0DD35-A435-4519-8E40-C5BB5BFAC54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14BF9-43F0-4B1C-BE0D-EB6A0208CE3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36896-12B8-4962-8E37-09739E0AABE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A74BD-AD75-4D21-A1CF-ACEB833EB90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B3F86-A7B8-414F-9C45-3E9B5BBD86F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CA6ED-FEA5-45BA-9C16-187D9230FB5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AE194-A07F-4FED-BE91-F129B5AB8E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0096D-3F71-4F14-98AC-B82A5079DF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3B3DC-559E-44F1-B9E6-DDAEAF509F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8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40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8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40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2FD5C-3C2E-4339-86FC-B0CE48637A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E525B-1DBB-4064-BE8A-C8133538E5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B96FA-06A0-4CC6-964E-22EFA31E62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3522F-A74B-44D1-98D9-A5B1C9FDE6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76F20-50F6-43D0-8D85-0123D01F7C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C0053-2A48-4895-9641-29090A27F8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CC52B-4872-4603-85D2-701317DBCC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8722F-090E-40E1-B0D0-7EE7C4A5A8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842DB-188D-4DE3-B4A9-F0AFB7E81E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43F46-F2A8-4AE9-9719-54A2B894A8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888B9-E01C-43AB-A840-569E441FA5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22261-1A45-4B62-A776-33E7D1E9CB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FC4BC-9C90-4E1C-878F-3F0366E90A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38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040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400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38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040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6A875-8BA9-4A18-BCB7-FA7F893D64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18E07-0ADB-4BC6-B33D-828963799B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DF58E-CA6C-46AB-95D4-5A45BDD091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987EB-AE5F-4D5A-9645-A21780D9B2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975F1-C8DA-4904-88A3-DE3C54DA65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93DE2-6CDE-443F-B80B-B5265CA95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36CB4-CB7C-4CB2-9CDF-4DA9C774B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CC29E-1722-46B7-86B2-70347A0289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52280" y="3104640"/>
            <a:ext cx="6208920" cy="2235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10F4FC8-059C-4537-81B0-4DD21C888277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E03CDFEA-F707-41B4-B86E-A99D07B9EF09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0DB3E83-1102-46A4-9B3E-10AB30B8D884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8C77B3DA-2EC6-4292-B331-A72F76C88628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684360" y="333360"/>
            <a:ext cx="809640" cy="93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2852640" y="3105000"/>
            <a:ext cx="6210360" cy="2237040"/>
          </a:xfrm>
          <a:prstGeom prst="rect">
            <a:avLst/>
          </a:prstGeom>
          <a:solidFill>
            <a:srgbClr val="ed0c8b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Verdana"/>
              </a:rPr>
              <a:t>Metamodel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Verdana"/>
              </a:rPr>
              <a:t>ERD2U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227160" y="5886360"/>
            <a:ext cx="54165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xpertgroep informatiemodellen 9 september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llen Deb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tel 1"/>
          <p:cNvSpPr/>
          <p:nvPr/>
        </p:nvSpPr>
        <p:spPr>
          <a:xfrm>
            <a:off x="1785960" y="28584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Metagegevens brondocum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214280" y="1857240"/>
            <a:ext cx="6772320" cy="3057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68436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ed0c8b"/>
                </a:solidFill>
                <a:latin typeface="Verdana"/>
              </a:rPr>
              <a:t>Inhoudsopga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f2f2f2"/>
                </a:solidFill>
                <a:latin typeface="Verdana"/>
              </a:rPr>
              <a:t>1</a:t>
            </a:r>
            <a:r>
              <a:rPr b="0" lang="nl-NL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300" spc="-1" strike="noStrike">
                <a:solidFill>
                  <a:srgbClr val="f2f2f2"/>
                </a:solidFill>
                <a:latin typeface="Verdana"/>
              </a:rPr>
              <a:t>Aanleiding &amp; uitgangspunt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f2f2f2"/>
                </a:solidFill>
                <a:latin typeface="Verdana"/>
              </a:rPr>
              <a:t>2</a:t>
            </a:r>
            <a:r>
              <a:rPr b="0" lang="nl-NL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300" spc="-1" strike="noStrike">
                <a:solidFill>
                  <a:srgbClr val="f2f2f2"/>
                </a:solidFill>
                <a:latin typeface="Verdana"/>
              </a:rPr>
              <a:t>Structuur informatiemodell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3. EA profi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539640" y="260280"/>
            <a:ext cx="1008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tel 1"/>
          <p:cNvSpPr/>
          <p:nvPr/>
        </p:nvSpPr>
        <p:spPr>
          <a:xfrm>
            <a:off x="1785960" y="28584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Gebruik EA prof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68436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ed0c8b"/>
                </a:solidFill>
                <a:latin typeface="Verdana"/>
              </a:rPr>
              <a:t>Inhoudsopga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1 Aanleiding &amp; uitgangspunte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2 Metamodel ERD2UML inhoudelij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3 EA profi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539640" y="260280"/>
            <a:ext cx="1008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tel 1"/>
          <p:cNvSpPr/>
          <p:nvPr/>
        </p:nvSpPr>
        <p:spPr>
          <a:xfrm>
            <a:off x="2071800" y="27288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Harmonisatie STUF NEN36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7859520" cy="5226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68436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1:1 conversi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Specificaties (=tekst) als bas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Voorkomen interpretatie van specifica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géén inhoudelijke wijzigingen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behoud van alle informati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onderscheid in presentatie (catalogus) 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 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registratie (EA)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	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539640" y="260280"/>
            <a:ext cx="1008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tel 1"/>
          <p:cNvSpPr/>
          <p:nvPr/>
        </p:nvSpPr>
        <p:spPr>
          <a:xfrm>
            <a:off x="2071800" y="27288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Uitgangspu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conver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68436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ed0c8b"/>
                </a:solidFill>
                <a:latin typeface="Verdana"/>
              </a:rPr>
              <a:t>Inhoudsopga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f2f2f2"/>
                </a:solidFill>
                <a:latin typeface="Verdana"/>
              </a:rPr>
              <a:t>1</a:t>
            </a:r>
            <a:r>
              <a:rPr b="0" lang="nl-NL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300" spc="-1" strike="noStrike">
                <a:solidFill>
                  <a:srgbClr val="f2f2f2"/>
                </a:solidFill>
                <a:latin typeface="Verdana"/>
              </a:rPr>
              <a:t>Aanleiding &amp; uitgangspunt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2 Metamodel ERD2UML inhoudelij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3 EA profi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539640" y="260280"/>
            <a:ext cx="1008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tel 1"/>
          <p:cNvSpPr/>
          <p:nvPr/>
        </p:nvSpPr>
        <p:spPr>
          <a:xfrm>
            <a:off x="1714680" y="285840"/>
            <a:ext cx="661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Definitie meta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2"/>
          <p:cNvSpPr/>
          <p:nvPr/>
        </p:nvSpPr>
        <p:spPr>
          <a:xfrm>
            <a:off x="714240" y="2071800"/>
            <a:ext cx="7643880" cy="20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- Een model van een mode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- Metamodel is een model gemaakt op een hog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abstractie niveau die de regels en construc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(syntax en semantiek) van het onderliggen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model aangeef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hthoek 64"/>
          <p:cNvSpPr/>
          <p:nvPr/>
        </p:nvSpPr>
        <p:spPr>
          <a:xfrm>
            <a:off x="3786120" y="1143000"/>
            <a:ext cx="121464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65"/>
          <p:cNvSpPr/>
          <p:nvPr/>
        </p:nvSpPr>
        <p:spPr>
          <a:xfrm>
            <a:off x="6000840" y="1143000"/>
            <a:ext cx="85716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66"/>
          <p:cNvSpPr/>
          <p:nvPr/>
        </p:nvSpPr>
        <p:spPr>
          <a:xfrm>
            <a:off x="1214280" y="1143000"/>
            <a:ext cx="8575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itel 1"/>
          <p:cNvSpPr/>
          <p:nvPr/>
        </p:nvSpPr>
        <p:spPr>
          <a:xfrm>
            <a:off x="1571760" y="21420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Metamodel ERD2U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op hoofdlij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285920" y="1500120"/>
            <a:ext cx="6276960" cy="50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tel 1"/>
          <p:cNvSpPr/>
          <p:nvPr/>
        </p:nvSpPr>
        <p:spPr>
          <a:xfrm>
            <a:off x="1643040" y="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Metamodel ERD2U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108000" y="642960"/>
            <a:ext cx="9036000" cy="6072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tel 1"/>
          <p:cNvSpPr/>
          <p:nvPr/>
        </p:nvSpPr>
        <p:spPr>
          <a:xfrm>
            <a:off x="1785960" y="28584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Definitie &amp;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informatie model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928800" y="1428840"/>
            <a:ext cx="7334280" cy="4876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8:56:31Z</dcterms:created>
  <dc:creator>Arjan Kloosterboer</dc:creator>
  <dc:description/>
  <dc:language>en-US</dc:language>
  <cp:lastModifiedBy>Harmen Mantel</cp:lastModifiedBy>
  <dcterms:modified xsi:type="dcterms:W3CDTF">2010-10-20T05:26:30Z</dcterms:modified>
  <cp:revision>158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